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C8A-4012-49D7-A8C2-2EE8980A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DD6-7EBB-466C-AC42-BEC70B2F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2FC-0BE9-4E87-A202-F7245D64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BFCA-FA61-4573-82A2-94E7DDFD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489-0CB7-4D25-A131-65BF7757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57A-115B-485C-8435-25B36F5E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BC6-D93C-43FA-A676-851C74CB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77E-0C1B-412F-A06F-0D4276B5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6A5-139B-4B17-B7F5-9947AF94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EBC-EFDB-48A4-BD41-00A2F12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27E-B90B-4C25-94A0-5C4BC65D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14C7-227B-4FB9-8F16-8743F431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3C58-B946-4A3A-9D68-290641A02C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Destruction of Sennacheri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ord By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ssyri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fo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oh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Galil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st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orr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strown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l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sh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Gent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unsmo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00360" y="160020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.e. Sennacherib, King of Assyria (705–681 B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lock of sheep in a sheep-p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roo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.e. Sea of Galilee, a lake in northern Isra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ext mo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archaic word for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trewn) scat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literally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trong wind; </a:t>
            </a:r>
            <a:r>
              <a:rPr b="0" i="1" lang="en-GB" sz="2200" spc="-1" strike="noStrike">
                <a:solidFill>
                  <a:srgbClr val="000000"/>
                </a:solidFill>
                <a:latin typeface="Calibri"/>
              </a:rPr>
              <a:t>figuratively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vine an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mo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pital of the Assyrian Emp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agan fertility god worshipped in ancient ti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rson who is not Jewish, i.e. here, Sennacheri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ot stru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483920"/>
            <a:ext cx="172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quatrai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napa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trameter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95280" y="1484280"/>
            <a:ext cx="6491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stanza of four lines, often having alternate rhy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unstressed syllables followed by one stressed syllable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ne of verse containing four stressed syll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ds beginning with the same consonant sound, often used to emphasise a particular point in a po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peated use of the same consonant in a phrase or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hrase used to make a description more vivid by using ‘like’ or ‘as’ to compare two th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rect comparison between two things without using ‘like’ or ‘a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25:31Z</dcterms:modified>
  <cp:revision>41</cp:revision>
  <dc:subject/>
  <dc:title>La Belle Dame Sans Merci</dc:title>
</cp:coreProperties>
</file>